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12A0D-BBE4-4EC1-9688-A29C6A7A3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99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135F4-23C8-4C6E-A2D4-8A6CFC102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99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2D7E5-73F2-40A7-8FC7-828C00704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99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1E1A0-B1DE-4712-AE8E-84E21658D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75731-0E86-448A-BBCA-E8403222B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99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8D6C1-CD40-4158-9B6C-3BA5DFDE6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99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4095F-2FB3-4CEF-B766-6F65330A1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99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C31DB-D5A7-40B0-B4E5-325130379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99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ABB22-1332-4CCF-BA3A-776CB64BE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4BD34-4CC9-4552-8EAF-D5E085A4F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99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3B09D-D28D-4BE3-AA8B-6DFF60E1A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99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4A434-6074-4004-9EFB-5B9AE2D39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99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C7957-531C-4186-9CD4-59D35C714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99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126A8-77D7-47F4-B3A1-8B3141FFD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99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A1010-B1D4-4356-BBF7-61751ED50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99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18160-D23F-4B30-8960-2047113AC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99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00F48-E2FC-4EA5-82E0-77438E094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99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B48E6-AC14-4E0C-BF0C-47CA661AD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99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964CF-79BE-4850-9DBA-84D221313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99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370EF-97CF-4361-BE18-4C09ABB77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17E17-DDFA-4DB5-BC5A-6FEE296EE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99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5F92A-F785-430D-AA5A-C52B6F1AD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99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520F5-25FA-4C44-8DDC-1977FBAE2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99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0206C-04E6-4F5D-AB43-02D59ABD8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ccff99"/>
                </a:gs>
                <a:gs pos="100000">
                  <a:srgbClr val="5c734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99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cc99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ff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ff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0D3C5-6AF8-4749-8F41-02ECF24C475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DB459-5CFB-4305-9FA4-0A6F7A26804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ccff99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99ff"/>
                </a:solidFill>
                <a:latin typeface="Monotype Corsiva"/>
              </a:rPr>
              <a:t>ALLAVI   YADAV (INDIA)      </a:t>
            </a:r>
            <a:endParaRPr b="0" lang="en-US" sz="3600" spc="-1" strike="noStrike">
              <a:solidFill>
                <a:srgbClr val="cc99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99ff"/>
                </a:solidFill>
                <a:latin typeface="Monotype Corsiva"/>
              </a:rPr>
              <a:t>PALLAVI YADAV   ( INDIA)</a:t>
            </a:r>
            <a:br>
              <a:rPr sz="3600"/>
            </a:br>
            <a:endParaRPr b="0" lang="en-US" sz="3600" spc="-1" strike="noStrike">
              <a:solidFill>
                <a:srgbClr val="cc99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362320" y="10663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Monotype Corsiva"/>
              </a:rPr>
              <a:t>ST. MARK’S GIRLS SR. SEC. SCH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Monotype Corsiva"/>
              </a:rPr>
              <a:t>HOBBIES-  TRAVELLING, DANCING,READ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Monotype Corsiva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Monotype Corsiva"/>
              </a:rPr>
              <a:t>FAVOURITE::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Monotype Corsiva"/>
              </a:rPr>
              <a:t>SUBJECTS-  HISTORY , SCIENCE  &amp;   ENGLIS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Monotype Corsiva"/>
              </a:rPr>
              <a:t>MONUMENT--  THE  TAJ  MAH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Monotype Corsiva"/>
              </a:rPr>
              <a:t>BIRTH PLACE- DELH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7ca02"/>
                </a:solidFill>
                <a:latin typeface="Monotype Corsiva"/>
              </a:rPr>
              <a:t>I AM  GLAD TO BE A PART OF THIS  PROJECT!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0" y="1828800"/>
            <a:ext cx="2133720" cy="327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99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2T14:02:36Z</dcterms:created>
  <dc:creator>MUKESH</dc:creator>
  <dc:description/>
  <dc:language>en-US</dc:language>
  <cp:lastModifiedBy>MUKESH</cp:lastModifiedBy>
  <dcterms:modified xsi:type="dcterms:W3CDTF">2010-02-02T14:32:59Z</dcterms:modified>
  <cp:revision>2</cp:revision>
  <dc:subject/>
  <dc:title>PALLAVI   YADAV (INDIA)      </dc:title>
</cp:coreProperties>
</file>